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455-F0F7-4729-A57F-2DCDF906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48B-5928-4355-A4D9-0CC01639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21D-16DC-4A0A-9C01-1DF77D8D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834-3ACF-43B8-8F61-B8D0AA25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E3A-92DC-45B2-90D8-8516E984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105-FBE0-4B8A-A001-F36B9E0D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EB0-7444-4E04-8860-F7FDAAF8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920B-CD73-4BDF-939D-490F32C7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9BB-75CF-4941-AF12-E56D3100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AE6-B8C0-41DF-BFC7-3A75DB55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4F7C-A434-4021-ADA5-9725C0D2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E95-F1C8-49DE-A040-E58757CA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C2A2-9528-4266-8296-BEC6AC489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ur sû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ré Bour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5 Pour sur.m4a" descr=""/>
          <p:cNvPicPr/>
          <p:nvPr/>
        </p:nvPicPr>
        <p:blipFill>
          <a:blip r:embed="rId1"/>
          <a:stretch/>
        </p:blipFill>
        <p:spPr>
          <a:xfrm>
            <a:off x="4419720" y="5105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914400" y="68580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l'as vite déniché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'est vrai que toi tu l'savais bi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e mon cœur, j'l'avais sur la mai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923760" y="601992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 uneart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914400" y="685800"/>
            <a:ext cx="929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s comme je suis frivol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'ai un cœur d'artichaud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us la bris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l s'envole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 sais que c'n'est pas bea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529560" y="5657760"/>
            <a:ext cx="34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e 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’envol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to f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914400" y="68580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s feuilles, une à un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 les voyant tombe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combl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'infortu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m'les as piétinées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925920" y="5646600"/>
            <a:ext cx="29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  The utmost, the 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  tram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914400" y="6858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e mon cœur est en deuil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'ai pleuré sur mes feuill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28800" y="601992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 deuil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ou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914400" y="68580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'n'y peux rien, j'ai l'âm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rop généreus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t un cœur pour les familles nombreuse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'était clair comme du ver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912240" y="60148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’am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914400" y="6858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allait voir à travers. T'es sourde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s toi tu m'as tout piétiné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m'en as fait du verre pilé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999000" y="60199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cru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914400" y="68580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ute ma raison s'égare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'enfant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la douleur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elle sensation bizarr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and on a plus de cœu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485280" y="5646600"/>
            <a:ext cx="498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’égarer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lose one’s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’enfanter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give birth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914400" y="685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Ça me fait un grand vi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t de mes deux beaux seins,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 n'ai plus qu'un saint Placi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t une marqu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6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à sein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655560" y="5257800"/>
            <a:ext cx="362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s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and , token, 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u sein d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914400" y="6858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'est l'histoire de mon cœur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i finit dans l'malheu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914400" y="68580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tre amour est une barqu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en détress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a falloir lancer le S.O.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 fallait qu'ça arri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013400" y="601992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  a barge or bo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914400" y="68580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{Parlé:}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oici un beau tango-duo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'est une histoire assez malheureus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tre Lui et Ell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rce que Lui il est frivole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t Elle, Elle s'en était bi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perçue qu'il était frivo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914400" y="6858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 vais à la dérive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9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ieu la vie et l'aven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933480" y="6014880"/>
            <a:ext cx="36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 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ler à la dérive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ri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914400" y="76212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{Parlé:} Oui mais heureusement... que Fluctuat nec mergitu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us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i... si tu me red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"Qu'est-ce que tu dis ?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'vais finir par te l'dire..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vas voir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631800" y="556272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lain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in expression mea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ssed by the seas but doesn’t sink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914400" y="68580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s, comme lui, au fond, Il est malheureux d'êtr' frivole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 veut lui expliquer;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s Elle, ell' comprend pas parce qu'elle est sourde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919440" y="601992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 dea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914400" y="6858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ors elle lui dit toujours 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"Qu'est-ce que tu dis ?"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t c'est pour ça qu'c'est difficile car il faut que je fasse à la fois la voix de Lui et la voix d'Elle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914400" y="685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s j'vais le faire quand mêm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rce que quand on est artiste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l faut faire tous les genres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914400" y="6858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'ai vu tes yeux de brais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 pied d'une meule de foin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revenais des frai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t moi d'l'herbe aux lapi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913680" y="56466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gl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 hayst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914400" y="68580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e t'ai dis "il fait chaud"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m'répondis "Pour sûr"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m'en avais dit trop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Ça m'a fait une morsure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993960" y="609588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b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914400" y="68580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't'ai pas offert de fleur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s j't'ai montré mon cœu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914400" y="685800"/>
            <a:ext cx="1005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l'as pris dans tes p'tites mains légè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e un p'tit papillon de Bruyère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ur sûr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le: Qu'est-ce que tu dis 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u l'as pris sans chercher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22:54:07Z</dcterms:created>
  <dc:creator>Angie</dc:creator>
  <dc:description/>
  <dc:language>en-US</dc:language>
  <cp:lastModifiedBy>Angie</cp:lastModifiedBy>
  <dcterms:modified xsi:type="dcterms:W3CDTF">2011-11-15T23:35:36Z</dcterms:modified>
  <cp:revision>5</cp:revision>
  <dc:subject/>
  <dc:title>Pour sûr</dc:title>
</cp:coreProperties>
</file>